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A29-71B7-49B1-8F7D-CDF260C1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0E8-EFC1-4E28-955D-09CC3B2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B92-37C0-480B-8A88-E8350FB4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F01-1075-4C72-9B83-F5D0DAEC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6A5-E081-4326-8DEA-5A39F61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563-5CF8-4757-A3D4-1266BAE5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2CA-7631-450C-A2EF-9FA2316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7EB-5659-480A-B7C0-634BD452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4DD-A865-4F8A-A6D4-66B607D4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FA4-FB29-41A5-A27B-EB8990F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BB0-C8BD-48A2-8D32-305B6C5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50D-80D5-4DDF-93FE-099B6EE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1856-01F8-438D-83F3-A803FC04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997360"/>
            <a:ext cx="756108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99"/>
                </a:solidFill>
                <a:latin typeface="Freestyle Script"/>
              </a:rPr>
              <a:t>Extr</a:t>
            </a: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ém </a:t>
            </a:r>
            <a:br>
              <a:rPr sz="12000"/>
            </a:b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	</a:t>
            </a: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	</a:t>
            </a: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	</a:t>
            </a: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	</a:t>
            </a:r>
            <a:r>
              <a:rPr b="1" lang="hu-HU" sz="12000" spc="-1" strike="noStrike">
                <a:solidFill>
                  <a:srgbClr val="000099"/>
                </a:solidFill>
                <a:latin typeface="Freestyle Script"/>
              </a:rPr>
              <a:t>sporto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634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360360" y="1700280"/>
            <a:ext cx="50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Gyors motorcsónak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Palackos búvárkod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égsz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Gyorsvitorl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0" y="354636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Szabadtüdős búvárk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ezítlábas vízisí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zéllovag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nl-BE" sz="1800" spc="-1" strike="noStrike">
                <a:solidFill>
                  <a:srgbClr val="000099"/>
                </a:solidFill>
                <a:latin typeface="Arial"/>
              </a:rPr>
              <a:t>Nyílt vízi ús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4211640" y="3573360"/>
            <a:ext cx="52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Hullámlovaglás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zárnyasvitorlá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ízdeszká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dvízi spor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9" descr="http://sumika.lapunk.hu/tarhely/sumika/kepek/sport/canyoning_2.jpg"/>
          <p:cNvPicPr/>
          <p:nvPr/>
        </p:nvPicPr>
        <p:blipFill>
          <a:blip r:embed="rId2"/>
          <a:stretch/>
        </p:blipFill>
        <p:spPr>
          <a:xfrm>
            <a:off x="7308720" y="5483160"/>
            <a:ext cx="1825920" cy="13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4" descr="http://sumika.lapunk.hu/tarhely/sumika/kepek/sport/rafting_em_brotas.jpg"/>
          <p:cNvPicPr/>
          <p:nvPr/>
        </p:nvPicPr>
        <p:blipFill>
          <a:blip r:embed="rId3"/>
          <a:stretch/>
        </p:blipFill>
        <p:spPr>
          <a:xfrm>
            <a:off x="0" y="5483160"/>
            <a:ext cx="182736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"/>
          <p:cNvPicPr/>
          <p:nvPr/>
        </p:nvPicPr>
        <p:blipFill>
          <a:blip r:embed="rId4"/>
          <a:stretch/>
        </p:blipFill>
        <p:spPr>
          <a:xfrm>
            <a:off x="1793880" y="5487840"/>
            <a:ext cx="1990800" cy="136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8" descr="http://sumika.lapunk.hu/tarhely/sumika/kepek/sport/hydrospeed_8.jpg"/>
          <p:cNvPicPr/>
          <p:nvPr/>
        </p:nvPicPr>
        <p:blipFill>
          <a:blip r:embed="rId5"/>
          <a:stretch/>
        </p:blipFill>
        <p:spPr>
          <a:xfrm>
            <a:off x="3786120" y="5491080"/>
            <a:ext cx="182412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6" descr="http://sumika.lapunk.hu/tarhely/sumika/kepek/sport/kajak.jpg"/>
          <p:cNvPicPr/>
          <p:nvPr/>
        </p:nvPicPr>
        <p:blipFill>
          <a:blip r:embed="rId6"/>
          <a:stretch/>
        </p:blipFill>
        <p:spPr>
          <a:xfrm>
            <a:off x="5610240" y="5477040"/>
            <a:ext cx="1703520" cy="136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Víz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9219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99"/>
                </a:solidFill>
                <a:latin typeface="Freestyle Script"/>
              </a:rPr>
              <a:t>Néhány világrekord</a:t>
            </a:r>
            <a:br>
              <a:rPr sz="6000"/>
            </a:br>
            <a:r>
              <a:rPr b="0" lang="hu-HU" sz="6000" spc="-1" strike="noStrike">
                <a:solidFill>
                  <a:srgbClr val="000099"/>
                </a:solidFill>
                <a:latin typeface="Freestyle Script"/>
              </a:rPr>
              <a:t>M</a:t>
            </a: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élységi szabadmerülésne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3500280"/>
          <a:ext cx="7740720" cy="3021120"/>
        </p:xfrm>
        <a:graphic>
          <a:graphicData uri="http://schemas.openxmlformats.org/drawingml/2006/table">
            <a:tbl>
              <a:tblPr/>
              <a:tblGrid>
                <a:gridCol w="1249200"/>
                <a:gridCol w="3108600"/>
                <a:gridCol w="1036440"/>
                <a:gridCol w="2346480"/>
              </a:tblGrid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ülés n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t használhat a merülés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lág-rek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korder n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zabad mer</a:t>
                      </a: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ü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</a:t>
                      </a: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sak a saját erejé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tin Stepa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Állandó súlyokk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úlyt használhat amit fel is kell ho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1 </a:t>
                      </a: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rbert Nit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áltozó súly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llasztot (felesleges teher, holtsú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los Co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zolú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orlátlan súlyú ballasz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4</a:t>
                      </a:r>
                      <a:r>
                        <a:rPr b="0" lang="hu-H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rbert Nit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1773360"/>
            <a:ext cx="558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Extrém sport</a:t>
            </a: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 olyan szabadidős tevékenység, amihez általában a megszokottól jelentősen eltérő helyszín és felszerelés szükség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Érdekességét</a:t>
            </a: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 a szokatlan élmények, az erőfeszítés, az izgalmak jelentik, végzése sokszor veszélyes, ezért gondos előkészület, speciális felszerelés, jól megválasztott környezet és segítők szükségesek hozzá.</a:t>
            </a: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99"/>
                </a:solidFill>
                <a:latin typeface="Freestyle Script"/>
              </a:rPr>
              <a:t>Az extrém sporthoz szüksé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Erre kijelölt és alkalmas h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Speciális technikai felszer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Kiváló mozgáskészsé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Nyugal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Megfontoltsá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Egy vezető, aki a szükséges információkat, szabályokat elmondja és azok betartását felügye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99"/>
                </a:solidFill>
                <a:latin typeface="Freestyle Script"/>
              </a:rPr>
              <a:t>Nem mindennapi vágy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r</a:t>
            </a: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epü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s</a:t>
            </a: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ebessé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e</a:t>
            </a: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m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u</a:t>
            </a: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g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sikerélmé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kihív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ka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megmérettetés</a:t>
            </a:r>
            <a:br>
              <a:rPr sz="2200"/>
            </a:b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küzdelem az elemek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az akaraterő próbatéte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önmagunk fizikai és szellemi határainak megismerése és tágít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Lég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628640"/>
            <a:ext cx="53290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man Old Style"/>
              </a:rPr>
              <a:t>Az ember rengeteget töprengett azon, hogyan lehetne legyőzni a levegőben a gravitáció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man Old Style"/>
              </a:rPr>
              <a:t>A kezdetben indákkal, kötelekkel próbálkoztott, később szárnyakat készítettek, majd létrejött az első hőlégballon és ejtőernyő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man Old Style"/>
              </a:rPr>
              <a:t>Az ember kitanulta a levegő mozgását, áramlását és olyan sportágakat volt képes kialakítani melyekről őseink álmodni sem mertek vol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3357720"/>
            <a:ext cx="5219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Base-ugrá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Hőlégballonoz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Mélybeug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Sárkányrepü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1700280"/>
            <a:ext cx="5219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Drótköté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Zuhanó ejtőernyőzé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Légdeszkázá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2060"/>
                </a:solidFill>
                <a:latin typeface="Arial"/>
              </a:rPr>
              <a:t>Vitorlázórepülé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"/>
          <p:cNvPicPr/>
          <p:nvPr/>
        </p:nvPicPr>
        <p:blipFill>
          <a:blip r:embed="rId2"/>
          <a:stretch/>
        </p:blipFill>
        <p:spPr>
          <a:xfrm>
            <a:off x="7451640" y="5505480"/>
            <a:ext cx="171144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ttp://extremesportok.hu/cikkfotok/speedrider/speedridingguy"/>
          <p:cNvPicPr/>
          <p:nvPr/>
        </p:nvPicPr>
        <p:blipFill>
          <a:blip r:embed="rId3"/>
          <a:stretch/>
        </p:blipFill>
        <p:spPr>
          <a:xfrm>
            <a:off x="4716360" y="5519880"/>
            <a:ext cx="27957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0" y="5500800"/>
            <a:ext cx="152568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http://sumika.lapunk.hu/tarhely/sumika/kepek/neu48.jpg"/>
          <p:cNvPicPr/>
          <p:nvPr/>
        </p:nvPicPr>
        <p:blipFill>
          <a:blip r:embed="rId5"/>
          <a:stretch/>
        </p:blipFill>
        <p:spPr>
          <a:xfrm>
            <a:off x="2700360" y="5537160"/>
            <a:ext cx="212400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9" descr="http://sumika.lapunk.hu/tarhely/sumika/kepek/bungee_jumping.jpg"/>
          <p:cNvPicPr/>
          <p:nvPr/>
        </p:nvPicPr>
        <p:blipFill>
          <a:blip r:embed="rId6"/>
          <a:stretch/>
        </p:blipFill>
        <p:spPr>
          <a:xfrm>
            <a:off x="1476360" y="5506920"/>
            <a:ext cx="1239840" cy="136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Lég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Szárazföld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0360" y="2208240"/>
            <a:ext cx="507528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 lehető legváltozatosabb terepeket veszik igény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99"/>
                </a:solidFill>
                <a:latin typeface="Bookman Old Style"/>
              </a:rPr>
              <a:t>T</a:t>
            </a: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érhódításuknak nincs vége, hiszen ahogy az ember és a technológia változik, új módszerekkel fogjuk tudni próbára tenni önmagunkat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4360" y="3428640"/>
            <a:ext cx="4390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egyikerékpáro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ziklamás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ördeszk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ódeszk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00000" y="1674720"/>
            <a:ext cx="52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Különleges motokross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Gyorskerékpáro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zfaltszánkó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dsíz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2997360"/>
            <a:ext cx="5435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gysoros görkorcsoly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zárazföldi és jégvitorl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almás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arlangás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MX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0" y="55180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3"/>
          <a:stretch/>
        </p:blipFill>
        <p:spPr>
          <a:xfrm>
            <a:off x="2050920" y="5518080"/>
            <a:ext cx="1365480" cy="13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4"/>
          <a:stretch/>
        </p:blipFill>
        <p:spPr>
          <a:xfrm>
            <a:off x="3419640" y="5518080"/>
            <a:ext cx="129672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6877080" y="5489640"/>
            <a:ext cx="22669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6"/>
          <a:stretch/>
        </p:blipFill>
        <p:spPr>
          <a:xfrm>
            <a:off x="4716360" y="5489640"/>
            <a:ext cx="2232000" cy="1368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Szárazföld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Freestyle Script"/>
              </a:rPr>
              <a:t>Vízi sportág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324000" y="2349360"/>
            <a:ext cx="5111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Bookman Old Style"/>
              </a:rPr>
              <a:t>Korunk kalandvágyó sportemberei a vizekben rejlő veszélyekre nem veszélyként, hanem leküzdendő akadályként tekintene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50920" y="522936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tremesportok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tremsport.lap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ekextrem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trem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linet.hu/tart/ncikk/bj/0/428/bungee2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26:51Z</dcterms:created>
  <dc:creator>Maci</dc:creator>
  <dc:description/>
  <dc:language>en-US</dc:language>
  <cp:lastModifiedBy>Incze.Katalin</cp:lastModifiedBy>
  <dcterms:modified xsi:type="dcterms:W3CDTF">2011-05-05T12:01:05Z</dcterms:modified>
  <cp:revision>36</cp:revision>
  <dc:subject/>
  <dc:title>Slide 1</dc:title>
</cp:coreProperties>
</file>